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8EDA-5854-4C65-9F6B-DBE3E8A3E8C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576-E86D-4071-BE22-F011A8B5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515-EA50-427E-930C-119699F4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661-4533-4F44-86A7-A7B5916F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79D-5F18-4E4F-95FF-ED567F07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995-5516-4239-846C-87F75512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C35-A384-4819-AE6E-6E67E447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535-6AC8-4009-A2F1-10796995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E3D-DC74-4694-B7E8-0FE41C6C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8EE-090A-4C18-940D-CBF9D341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A38-DB68-4512-B341-6AFC82E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9AD-5CE4-40C9-A7DD-49E6C126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E23-0B54-4C79-8506-85F7FFF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90B7-1CF5-4C2C-A30E-61207A8CED98}" type="datetime3">
              <a:rPr b="0" lang="en-US" sz="14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381360"/>
            <a:ext cx="490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Rosemary Horton Trin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horton.rosemary@trinity.wa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16720" y="6244920"/>
            <a:ext cx="82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1D6-2705-4355-A834-8715231E61EA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inity.wa.edu.au/plduffyrc/subjects/english/fant/default.ht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inity.wa.edu.au/plduffyrc/library/review.htm" TargetMode="External"/><Relationship Id="rId3" Type="http://schemas.openxmlformats.org/officeDocument/2006/relationships/hyperlink" Target="http://www.trinity.wa.edu.au/plduffyrc/subjects/english/aust/austfiction.htm" TargetMode="External"/><Relationship Id="rId4" Type="http://schemas.openxmlformats.org/officeDocument/2006/relationships/hyperlink" Target="http://www.trinity.wa.edu.au/plduffyrc/subjects/english/fant/default.htm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inity.wa.edu.au/plduffyrc/teaching/boyread.htm" TargetMode="External"/><Relationship Id="rId3" Type="http://schemas.openxmlformats.org/officeDocument/2006/relationships/hyperlink" Target="http://www.trinity.wa.edu.au/plduffyrc/teaching/bksboys.htm" TargetMode="External"/><Relationship Id="rId4" Type="http://schemas.openxmlformats.org/officeDocument/2006/relationships/hyperlink" Target="http://www.trinity.wa.edu.au/plduffyrc/teaching/boys.htm" TargetMode="External"/><Relationship Id="rId5" Type="http://schemas.openxmlformats.org/officeDocument/2006/relationships/hyperlink" Target="http://library.trinity.wa.edu.au/library/review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384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oys are People To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ys and Reading, Truth and Misconcep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on: Promote Role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cognise the critical role of the trusted adult mediat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esent male, book-positive role models incl fathers and teachers sharing reading for plea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volve parents by compiling a good book list for them to buy from or developing a ‘take-home’ reading program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achers talk about their process as a reader – eg. how they choose and read 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4319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on: Attitu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llow time for ‘free’ r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validate personal choice ; allow in reading related activities in the curriculu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educe the emphasis on the study of texts and extensive written responses and increase time for reading for pleasure and for discussion and ‘booktalk’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nsure that the roles of print-based texts and electronic materials are regarded as complementary and of equal impor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mote Peer Inp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e reading peer groups – so that students can enthuse each ot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ads, popular music, films with 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reading a socia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on: Litera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aloud to students – injecting drama, being a mediator between the book and the stud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electronic media and attractive, accessible Websites to promote reading and involve in book- and reading-related activities. Australian Fiction;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Fantasy Reading Online Ques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ike a balance between reading enjoyment and reading skill. An excessive emphasis on the technical may discourage some readers. For some students, a primary concern with grammar and phonics can result in the story being lo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age in ‘critical literacy’ by challenging limited male stereotypes –showing students that books are not gender neutral – rather, they actively construct g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77868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e do at Trin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2852280"/>
            <a:ext cx="8075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uy books, lots of books of all kinds – fiction collection doubled in last 4 years Books and Authors for Boy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listen to sugges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un a book club with Mercedes girls and Dymock’s consul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ook reviews by staff members </a:t>
            </a:r>
            <a:r>
              <a:rPr b="0" lang="en-A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ersonal Book Reviews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romote waybra and cbc a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ncourage use of ict and reading </a:t>
            </a:r>
            <a:r>
              <a:rPr b="0" lang="en-A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Australian Fiction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AU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antasy Reading Online Quest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76360" y="1052640"/>
          <a:ext cx="6048360" cy="187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052640"/>
                    <a:ext cx="6048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rther investig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Boys, Literacy and Reading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Books and Authors for Bo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teracy Across The Curriculu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Boys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Personal Book Reviews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(by staf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ustralian Fi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antasy Reading Online Que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03360" y="1905120"/>
          <a:ext cx="194472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3360" y="1905120"/>
                    <a:ext cx="1944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2205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85264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1341360"/>
            <a:ext cx="252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404640"/>
            <a:ext cx="3887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ity 69% boys/ 80%  girls actually enjoy reading to some ex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% boys/48% girls read every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1% boys reading is boring /45% ner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ing for pleasure drops primary to secondary 45% to 2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6% boys &amp; girls would read more if they had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45370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105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4 % of boys, / 26 % girls lack basic literacy skil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sier reading is considered to be, the more enjoyable the reading exper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% of boys do not associate reading for pleasure as being ea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ys who don’t read  estimate their reading speed to be slower than that of their pee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99088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248000" cy="32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mily and fri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4103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ng people who read every d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likely to have a father who reads at least sometim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other who reads all the ti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blings  and friends who re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ts of books to read at 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0720" y="119664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ggest difference  between readers and non-readers appears in the proportion who have friends who r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ends are the main source of advice of books to r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boys don’t see men around them read or value r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04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3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iends and Role Mode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41367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cy Boys Enjo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ys have a strong interest in electronic and graphic forms of literate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ys are willing to ‘do’ literacy in active, public ways (such as debating, drama, public speak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ys are eager to engage with ‘real-life’ literacy contexts and ‘real life’ literacy pract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1767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396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ve identification with reading is associated with +ve identification with perceived masculine activities and qua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me and school see reading as an interest more appropriate for girls than for bo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athers often identify themselves as non-r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oys are more likely to see it as boring and a bit ner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797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2920" y="907560"/>
            <a:ext cx="4249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oys' imaginations are being captured by sport or computers; but 'real men don't read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ding 30%; tv 38% internet 31% computer games 2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lder boys who had lost interest in reading – do not see it as a bad thing, but was no longer of inte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65% boys reading is irrelev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33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e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5007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Judge a Book by its C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392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male friendly policies and material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u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ourage books that expand students’ versions of masculi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&gt; quantity &amp; range of recreational read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 books appeal to students – not books that adults read as youngsters or award winning 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 locations, age, appearance (covers), display and presentation of 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403848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1:42:48Z</dcterms:created>
  <dc:creator>horton.rosemary</dc:creator>
  <dc:description/>
  <dc:language>en-US</dc:language>
  <cp:lastModifiedBy>chrisk</cp:lastModifiedBy>
  <dcterms:modified xsi:type="dcterms:W3CDTF">2010-08-09T23:52:13Z</dcterms:modified>
  <cp:revision>55</cp:revision>
  <dc:subject/>
  <dc:title>  Boys are People Too</dc:title>
</cp:coreProperties>
</file>